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D83D-0285-4BC7-B53C-484D17AB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EDA-BD7B-40F0-ABF1-FF755133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679-395C-4751-8A13-25B7725A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F77-9425-4EF5-A000-75AF2719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34A-A2D9-467E-B1BA-1D9A9DB6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28F6-698A-4E2E-AA96-DCA4CD31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6F2-73F8-474A-9D95-A0224998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912-E2A9-4422-BBB7-83083750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B4C-83B9-43BE-82E3-FBEBD3CA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CC7-73E2-4560-BBAF-483CC2C0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61E-FF46-47F3-8CF4-DE94E747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862-89C1-4FBE-981D-F5C16292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48C1-3006-4988-B2D7-27896F857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196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Learning Objective</a:t>
            </a:r>
            <a:br>
              <a:rPr sz="40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 overall understanding of Shifty, focusing on representations of British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Shifty Poster - Click to View Extra Large Image"/>
          <p:cNvPicPr/>
          <p:nvPr/>
        </p:nvPicPr>
        <p:blipFill>
          <a:blip r:embed="rId1"/>
          <a:stretch/>
        </p:blipFill>
        <p:spPr>
          <a:xfrm>
            <a:off x="3276720" y="476280"/>
            <a:ext cx="29160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at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Shifty Poster - Click to View Extra Large 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 What techniques does the poster use to sell the film to its target audience?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 What clues are there that tell us about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he genre and style of the film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he intended target audi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at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Shifty Poster - Click to View Extra Large 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196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atch “The Making of Shift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hifty Poster - Click to View Extra Large Image"/>
          <p:cNvPicPr/>
          <p:nvPr/>
        </p:nvPicPr>
        <p:blipFill>
          <a:blip r:embed="rId1"/>
          <a:stretch/>
        </p:blipFill>
        <p:spPr>
          <a:xfrm>
            <a:off x="3276720" y="476280"/>
            <a:ext cx="29160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687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groups discuss (refer to your glossary)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1: Britishnes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2: Narrativ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3: Ideological them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4: Technical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hifty Poster - Click to View Extra Large Image"/>
          <p:cNvPicPr/>
          <p:nvPr/>
        </p:nvPicPr>
        <p:blipFill>
          <a:blip r:embed="rId1"/>
          <a:stretch/>
        </p:blipFill>
        <p:spPr>
          <a:xfrm>
            <a:off x="3276720" y="476280"/>
            <a:ext cx="29160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6:30:02Z</dcterms:created>
  <dc:creator>Shereen</dc:creator>
  <dc:description/>
  <dc:language>en-US</dc:language>
  <cp:lastModifiedBy>Shereen</cp:lastModifiedBy>
  <dcterms:modified xsi:type="dcterms:W3CDTF">2009-11-03T13:49:00Z</dcterms:modified>
  <cp:revision>5</cp:revision>
  <dc:subject/>
  <dc:title>Learning Objective Build overall understanding of Shifty, focusing on representations of Britishness</dc:title>
</cp:coreProperties>
</file>